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3BB2-5E73-4990-B452-EFBDD1AC8B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крепостного права в России в 186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ие ре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«Гимназия №1», г.Новомосков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нова Ия Юр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DED7-117D-4CD8-A074-2F352F994F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ременнообязанный крестьян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ременнообязанное по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лось до тех пор, пока крестьянин не начинал процедуру выкуп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выкупа начиналась с 19февраля 186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1г. «Положение» об обязательном переводе оставшихся крестьян на вы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65D-4541-4125-B2D3-D872357909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мер участка, меньше которого помещик не должен был предлагать крестьяни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Ma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частка, больше которого крестьянин не должен требовать у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«отрезки»;    «прирез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ставная грамота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говор помещика и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Дарственный надел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ировые посредники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5F14-21E8-4997-A71F-3E18A5B75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Г.Г.Мясоедов «Чтение Манифеста 19 февраля 1861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1861г.- 1959крестьянских вол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стания в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езд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во главе Антон Петров)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ндеевк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закончились расстр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53A0-C64F-447F-AFB0-42388B2892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Значение и итоги крестьянской рефор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а необходимые условия для утверждения капитал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росту темпов экономическ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тменой крепостного права последовали и другие реформы 60-70-х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3A25-9574-4B2D-9DD0-A05BFA5FC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Реформа была крайне непоследовательной и противоречиво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16C2-D67C-402F-986B-F12B4AE5D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Имущественный цен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Многостепенные выб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Прямые выбор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2A23-A740-4C16-AAB1-8BE895378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́ндр II Никола́е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мператор Всероссий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Польский и великий князь Финляндский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 династ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 императорской чет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иколая Павл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Александры Фёдоро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ёл в русскую историю как проводник широкомасштаб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ен особого эпитета в русской дореволюционной историографии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ободи́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связи с отменой крепостного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 в результате террористического акта, организованного партией «Народная воля» 1марта 1881г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78AC-94F1-4678-830C-EF7E76BC8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есмотря на всю прогрессивность реформа имела 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ернатор имел право исключать из списков присяжных заседателей неугод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F10-E56D-4A9A-B7DF-A1A031DE19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се мужское население подлежит воинской повинности, </a:t>
            </a:r>
            <a:r>
              <a:rPr b="0" lang="ru-RU" sz="1200" spc="-1" strike="noStrike" u="sng">
                <a:solidFill>
                  <a:srgbClr val="663300"/>
                </a:solidFill>
                <a:uFillTx/>
                <a:latin typeface="Calibri"/>
              </a:rPr>
              <a:t>денежный выкуп не допуск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с образованием право выбора без жреб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льноопределя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роки служ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ухопутные в-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5 лет ( 6-дествительной; 9- в запа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л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лет ( 7действительной; 3 в запас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енных условиях остаются на службе по необходимости, призывной возраст до 4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452-98A4-4912-9EB0-63C451DC1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олнитель-ные орг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ородской голова и Городские упра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дстави-тельные (распоряди-тельные) орган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одская Д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Функци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озяйственные, благо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048-73B6-4C16-A3CC-4FBE97AF2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орма провозглашала принцип общечеловеческого образования и всесослов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перестройка школы не привела к полной демократизации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упна классическая школа для низших слоев ( высокая пла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EB35-CF0C-4E57-9045-513A6B32A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репостное право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чины отмены крепо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низкая производительность крепостного труда, нерентабельность хозя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.п.- угроза общественного спокойствия (рост крестьянских волне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649-8A02-4355-BA5B-1836EE0BB3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– письмо монарха к под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93E-7CA7-4A55-AE5A-60D8FCA1D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libri"/>
              </a:rPr>
              <a:t>Проекты освобождения крестьян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крестьян без земли или с очень маленьким наделом за большой выку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не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с землей, но выкуп не только за землю, но и за личность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723D-EF57-40CB-96D7-986C5EB14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19 февраля 1861г.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«Манифест об освобождении помещичьих крестьян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Положения о крестьянах, вышедших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лась личная своб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D10E-51A2-40BC-8157-281F9964D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Гражданские пра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 производить сделки с движимым и недвижимым имуществом (покупка, продаж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) открывать торговые и промышленные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) выступать от своего имени в су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) переходить в другие со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95AA-395D-4CC1-BEE4-CF3B0924C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упная опе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079-2CF0-4B02-B4A0-A1EAFDC74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0BD-BE7E-4B61-9F58-018A1D00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4BC-951D-4140-8192-C596EE53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D66-DEFA-4BD3-B8B8-8E4BC7EE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B91-CD40-45C7-B06C-315403F5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F65-C1CF-4703-9878-8E03EE6F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BE46-B666-47A7-B137-4132080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EC14-0338-4E81-AD18-BEBF2FDF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2E0-5DB7-47B9-ACEA-49AFDB7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5FBC-0F81-4E54-A5E2-F0856701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FB2-9CEA-418A-9E70-8513FF2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CE19-6474-4420-A6C9-34DD30F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3F6-003A-4A6C-B426-8A605E83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E9B1-AE9A-4AC8-912D-F49ADAE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31B9-9972-4828-8AAB-B9B3A0A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90F-AF8C-44E9-8BE1-0B963D4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4D3-C85B-45FC-8177-4B58CA22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66E8-9399-46E8-A116-370F22C9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01B-4C2B-4C3C-848F-F5A27196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8C3-7DE9-46ED-A447-AEF6752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E39-D0F2-4C1D-ACD2-BB0EBC6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656-1297-43B0-B970-7598DEE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F1C-D097-4BD3-A022-23D7133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961-3047-4F93-9B61-9AB6B0D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51E-E578-44DA-B73A-76BA250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2E8-9C63-4A13-B36D-C756FF6920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46E7-4786-40C4-B710-4B05C25317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11.ru/mjasoedov_grigorii_grigorevich/5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rt11.ru/mjasoedov_grigorii_grigorevich/5b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nakoteka.ru/blog/wp-content/uploads/2009/11/dhoenynfdhdhudhdhdh-dhdh-dhndhudhdhdhu-dhdhdhdhndhunfndh-19-ndhudhndhdhny-1861-dhdhdhdh-1873-dh-dhndhnnndhdh-1960-dh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hyperlink" Target="http://ru.wikipedia.org/wiki/&#1040;&#1083;&#1077;&#1082;&#1089;&#1072;&#1085;&#1076;&#1088;&#1072;_&#1060;&#1105;&#1076;&#1086;&#1088;&#1086;&#1074;&#1085;&#1072;_(&#1078;&#1077;&#1085;&#1072;_&#1053;&#1080;&#1082;&#1086;&#1083;&#1072;&#1103;_I)" TargetMode="External"/><Relationship Id="rId7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8" Type="http://schemas.openxmlformats.org/officeDocument/2006/relationships/hyperlink" Target="http://ru.wikipedia.org/wiki/&#1048;&#1089;&#1090;&#1086;&#1088;&#1080;&#1086;&#1075;&#1088;&#1072;&#1092;&#1080;&#1103;" TargetMode="External"/><Relationship Id="rId9" Type="http://schemas.openxmlformats.org/officeDocument/2006/relationships/hyperlink" Target="http://ru.wikipedia.org/wiki/&#1058;&#1077;&#1088;&#1088;&#1086;&#1088;&#1080;&#1079;&#1084;" TargetMode="External"/><Relationship Id="rId10" Type="http://schemas.openxmlformats.org/officeDocument/2006/relationships/hyperlink" Target="http://ru.wikipedia.org/wiki/&#1053;&#1072;&#1088;&#1086;&#1076;&#1085;&#1072;&#1103;_&#1074;&#1086;&#1083;&#1103;" TargetMode="External"/><Relationship Id="rId11" Type="http://schemas.openxmlformats.org/officeDocument/2006/relationships/hyperlink" Target="http://ru.wikipedia.org/wiki/&#1060;&#1072;&#1081;&#1083;:Alexander_II_of_Russia_(Nikolay_Lavrov_01).jpg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тмена крепостного права в России в 1861г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е ре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я №1», г.Новомоск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а Ия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4" descr="image001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56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Временнообязанный крестьян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Временнообязанное поло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ялось до тех пор, пока крестьянин не начинал процедуру выкуп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выкупа начиналась с 19февраля 1863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81г. «Положение» об обязательном переводе оставшихся крестьян на выку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М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мер участка, меньше которого помещик не должен был предлагать крестьяни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a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мер участка, больше которого крестьянин не должен требовать у помещ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«отрезки»;    «прире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ставная грамот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говор помещика и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«Дарственный надел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ировые посредники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Г.Г.Мясоедов «Чтение Манифеста 19 февраля 1861г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 1861г.- 1959крестьянских вол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осстания в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Бездн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во главе Антон Петров) и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Кандеевк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закончились расстрел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5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Чтение манифеста 19 февраля 1861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0"/>
            <a:ext cx="7885080" cy="5021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Значение и итоги крестьянской реформы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ла необходимые условия для утверждения капитализ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росту темпов экономического развит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отменой крепостного права последовали и другие реформы 60-70-х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Реформа была крайне непоследовательной и противоречивой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6443640" y="609300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Имущественный цен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Многостепенные выб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Прямые выборы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image001"/>
          <p:cNvPicPr/>
          <p:nvPr/>
        </p:nvPicPr>
        <p:blipFill>
          <a:blip r:embed="rId1"/>
          <a:stretch/>
        </p:blipFill>
        <p:spPr>
          <a:xfrm>
            <a:off x="1116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2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472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́ндр II Никола́е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Император Всероссий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арь Польский и великий князь Финляндский (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18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188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династи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Роман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ший сын императорской четы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Николая Павлович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Александры Фёдоров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шёл в русскую историю как проводник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широкомасштабных рефор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стоен особого эпитета в русской дореволюционной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сториограф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вободи́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связи с отменой крепостного прав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гиб в результате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террористическ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а, организованного партией «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Народная во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1марта 1881г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Александр II Николаевич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1197000"/>
            <a:ext cx="3871800" cy="4535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image001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смотря на всю прогрессивность реформа имела 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бернатор имел право исключать из списков присяжных заседателей неугодных л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01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Все мужское население подлежит воинской повинности, </a:t>
            </a:r>
            <a:r>
              <a:rPr b="0" lang="ru-RU" sz="3000" spc="-1" strike="noStrike" u="sng">
                <a:solidFill>
                  <a:srgbClr val="663300"/>
                </a:solidFill>
                <a:uFillTx/>
                <a:latin typeface="Arial"/>
              </a:rPr>
              <a:t>денежный выкуп не допускае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цам с образованием право выбора без жребия – </a:t>
            </a: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ольноопределяющие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роки служб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Сухопутные в-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5 лет ( 6-дествительной; 9- в запас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Фл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0лет ( 7действительной; 3 в запас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оенных условиях остаются на службе по необходимости, призывной возраст до 43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Image1"/>
          <p:cNvPicPr/>
          <p:nvPr/>
        </p:nvPicPr>
        <p:blipFill>
          <a:blip r:embed="rId1"/>
          <a:stretch/>
        </p:blipFill>
        <p:spPr>
          <a:xfrm>
            <a:off x="324000" y="58680"/>
            <a:ext cx="8064360" cy="6680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0" y="1719360"/>
            <a:ext cx="2952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Исполнитель-ные орга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Городской голова и Городские управ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Представи-тельные (распоряди-тельные) органы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Городская Д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Функци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хозяйственные, благо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040440" cy="6669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4" descr="image001"/>
          <p:cNvPicPr/>
          <p:nvPr/>
        </p:nvPicPr>
        <p:blipFill>
          <a:blip r:embed="rId1"/>
          <a:stretch/>
        </p:blipFill>
        <p:spPr>
          <a:xfrm>
            <a:off x="250920" y="0"/>
            <a:ext cx="785016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форма провозглашала принцип общечеловеческого образования и всесословной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о перестройка школы не привела к полной демократизации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упна классическая школа для низших слоев ( высокая плат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репостное право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чины отмены крепостного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низкая производительность крепостного труда, нерентабельность хозяй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.п.- угроза общественного спокойствия (рост крестьянских волне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– письмо монарха к подданн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74680"/>
          <a:ext cx="8229600" cy="5954760"/>
        </p:xfrm>
        <a:graphic>
          <a:graphicData uri="http://schemas.openxmlformats.org/drawingml/2006/table">
            <a:tbl>
              <a:tblPr/>
              <a:tblGrid>
                <a:gridCol w="4402080"/>
                <a:gridCol w="3827520"/>
              </a:tblGrid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Учреждения,       занимавшиеся подготовкой рефор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бяза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Совет, Секретный комитет с 1858г. Главный комитет по крестьянскому дел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ие обсуждения проекта зак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ционные комиссии (председатель Я.Ростовце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поправок и изменений в проек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ские дворянские комитеты об улучшении быта помещичьих крестьян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отрение материалов,представленных губернскими комитетами составление единого проекта зак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Проекты освобождения крестьян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 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крестьян без земли или с очень маленьким наделом за большой выкуп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В не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с землей, но выкуп не только за землю, но и за личность крестьян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0000" y="476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19 февраля 1861г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«Манифест об освобождении помещичьих крестьян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«Положения о крестьянах, вышедших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лась личная своб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aldr2"/>
          <p:cNvPicPr/>
          <p:nvPr/>
        </p:nvPicPr>
        <p:blipFill>
          <a:blip r:embed="rId1"/>
          <a:stretch/>
        </p:blipFill>
        <p:spPr>
          <a:xfrm>
            <a:off x="468360" y="765000"/>
            <a:ext cx="352404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Гражданские права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 производить сделки с движимым и недвижимым имуществом (покупка, продаж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открывать торговые и промышленные пред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) выступать от своего имени в су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5) переходить в другие сосло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122040"/>
            <a:ext cx="746928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ыкупная операц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28:40Z</dcterms:created>
  <dc:creator>Админ</dc:creator>
  <dc:description/>
  <dc:language>en-US</dc:language>
  <cp:lastModifiedBy>LEGION</cp:lastModifiedBy>
  <dcterms:modified xsi:type="dcterms:W3CDTF">2015-01-14T10:10:40Z</dcterms:modified>
  <cp:revision>21</cp:revision>
  <dc:subject/>
  <dc:title>Слайд 1</dc:title>
</cp:coreProperties>
</file>